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9527-C29F-4993-8C9B-4B48E938A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D383-9C1C-42D8-9435-3EA26E3D63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5F1-5F35-4B7A-B7D6-7DC9FA1D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B4E-4E69-424D-8DA3-18BFE38F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006-F870-42CA-AF92-C68A2AE8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372-8608-4CBE-A815-5D56A233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4397-AF71-435F-BC8D-34B0F2B5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6584-224C-40B3-B7F1-BF94D673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2543-9C58-4BAF-B350-9B8DAB5F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0B52-9B1F-4C87-A94E-B4F19BCA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3A89-53FE-4ECF-8D0F-EF3004A2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A95-9B3E-4D20-A153-D1D1CDED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B1D2-220F-49ED-8308-06DFC650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955-4844-4CFE-8861-6C8B3329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EE6B-3DF0-426E-9249-15DCEF2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ABDC-14CA-451A-AE00-780E7E6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B76A-AAF1-4B26-B4F1-91202E02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00A7-314A-41F6-800B-BC924182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17B9-0E18-4DAD-A7D5-46F0C5CC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804A-61B1-462A-B85D-88F2AE36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3AFC-56B1-4778-AC1C-562EE02F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F34B-3995-4F6B-9760-AB577A9F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B99A-CA7A-4225-8615-1A211F8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A546-F1B1-4D6B-942F-20882520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EDA-5A44-47EB-92D2-34F9B61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3FCF-E2D3-4F69-A73C-DD5F5B83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83EE-8DAB-4988-945B-055C0E73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59C5-E9D8-4D7A-9471-94075058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1C4F-1114-4EEF-9628-D2E57B20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E3F8-57AD-440D-8853-85095A03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94C15-902E-47DD-8666-6A8072BC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2FB4-7E82-4925-A37B-7973D598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DE87-A312-4565-BFBA-85F2304E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58C42-A903-49DC-9DF0-C90B6510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8B9F-4B70-48F9-A331-5FF5AF80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D95-060C-4DD6-A8C1-D684D47D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E1ECF-7433-4085-9623-6F9BB0CB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7993-E3F0-4388-AD5C-B3AC6014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0E2C2-56FC-4A46-B079-E2D9733A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A9C21-C298-44A9-A264-8294C625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2535B-2A54-4DF0-8C18-74D09E5E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A91B-6D2F-41DC-88CE-DD2E5C0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7801-D6F4-4C15-BC4A-A6748042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5EDE-7A2B-4442-8BEF-8534449D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EFBB3-B735-4765-8378-49E5F3DE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60396-0234-44DD-9CFE-B6D10AE0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A5F-296E-4042-8FFC-D7B166C6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005E-4F3A-4E61-9D84-6F302621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9C581-F11C-45AC-8129-CD57D3BE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BBD00-93D0-4729-AE22-C59E2D58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57689-8519-4AC8-9770-2AFD26BB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18A9A-54D3-4EA3-9462-F9B6D444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FC16-E0F0-4A3C-92FD-FF72363E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95FB-00CD-47BC-AE88-64B48D70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21400-8AC3-4DEF-A486-E7C12E8F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1608-0A40-4E16-B837-64E13400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4DFFB-D51A-4551-BDA7-52D9B781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D90-7521-4B00-BEC7-A3073CCD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B110-1991-4906-9053-BB5E5EB1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EE1D-4761-4345-9FC3-343AFB08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622E0-219C-444C-817E-976426CA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438F2-7C37-4BF8-892A-DC6C49D3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666E7-EB4F-4126-86F7-57134A1B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898B5-468E-4315-B6CB-9AE41DBF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A0FD0-E247-4890-A675-F90D2800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2427C-3844-4835-B8E4-9FF518FE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3FA1-5C38-439C-A8BA-3B36E38E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9CC03-4DDA-4261-8E5C-453ACFB5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991-4114-465A-9A6D-EF68D753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53006-06C5-4842-AD5A-B2E9282C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215A3-FE31-4ACA-BFAE-30E5164F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E2A1-5EFD-4ABD-8B13-7807C6D6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58D07-A958-4643-8196-C3850D40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99DCA-B3B3-4A07-9AF6-70C72F1D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4BCA0-E027-48DC-A4F7-D461372E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B31DC-44EE-443E-BE5B-204E1B68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DE8D2-DCC6-43EE-BEA2-7EE5FB05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5772F-8338-48F1-8932-BF269CEC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0EB45-44BA-415C-A3FC-E701EA76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A0E-ECF5-4B3C-843A-2A03ACE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41BA0-26DF-4AF1-AC80-5B288DF7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50ECF-A6DC-4B72-8FAC-45435013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D4E7F-6A6A-4C3A-BEEC-4AE33638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80BCF-59D9-41A1-84DC-36B9A4F6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4FBEA-AA27-42D1-97E1-15EB939E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56FA-A060-4CF3-AB4E-5E4F3196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BBC80-20F1-4469-98F0-F1A3A390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AD40A-DC1E-4CFC-9540-7901D1CD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3D700-166B-4EDE-8D15-3F98CBE5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DF094-4E7A-4B15-AC02-A10DB16D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2F0-6D8F-4925-ACF2-4E541351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D0EBD-F3E1-48B9-ACC8-AAF310C3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F7672-596A-438B-8A27-53C6063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28329-1A1B-4AF7-8BB0-F4DEF9D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D582B-0CF0-4EF3-A61A-F4653876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5D07B-CE56-44D5-A545-2EF820D5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3DC0A-0B2A-44B9-8E25-17F34CF1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385D1-22E2-48A3-AA0A-FBCC51DE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A85E-B1E0-4FB1-A272-5C2F267FD32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CD7A-5668-4724-91F1-1A1C4C4D5C4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41ED-0D99-4C93-959E-48AF5ACC286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35A9-79AB-4D7C-8B24-B0F69A95E62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A75F-E4B6-4CFF-A302-2FFAA684BC1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DBA3-AD36-447B-BBDF-670F5897425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7C1B-1BC9-40AA-A4C7-60D8D4110BF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254C-412D-49FF-B557-72CC9403605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 Katelyn Jon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luto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ron is Pluto's only known satelli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rcu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091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rcury is the closest planet to the Su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t is a small plane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e is no life there, because, it is so ho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dark side is very  col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or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0" name="Picture 5" descr="C:\Documents and Settings\JonesK\Local Settings\Temporary Internet Files\Content.IE5\0ZAFKNMI\MC900083151[1].wmf"/>
          <p:cNvPicPr/>
          <p:nvPr/>
        </p:nvPicPr>
        <p:blipFill>
          <a:blip r:embed="rId1"/>
          <a:stretch/>
        </p:blipFill>
        <p:spPr>
          <a:xfrm>
            <a:off x="4876920" y="2362320"/>
            <a:ext cx="35449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enus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enus is the same size as the earth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enus is r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enus is made of carbon Dioxid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lanetfacts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5" descr="C:\Documents and Settings\JonesK\Local Settings\Temporary Internet Files\Content.IE5\EO1L7N1R\MC900083159[1].wmf"/>
          <p:cNvPicPr/>
          <p:nvPr/>
        </p:nvPicPr>
        <p:blipFill>
          <a:blip r:embed="rId1"/>
          <a:stretch/>
        </p:blipFill>
        <p:spPr>
          <a:xfrm>
            <a:off x="4648320" y="1971720"/>
            <a:ext cx="39621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arth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ur home plane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arth is the same size as Venu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t is the only planet that has living thing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Earth is around 4.6 billion years old acording to scientis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 org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8" name="Picture 6" descr="C:\Documents and Settings\JonesK\Local Settings\Temporary Internet Files\Content.IE5\8XMWAQNB\MC900432569[1].png"/>
          <p:cNvPicPr/>
          <p:nvPr/>
        </p:nvPicPr>
        <p:blipFill>
          <a:blip r:embed="rId1"/>
          <a:stretch/>
        </p:blipFill>
        <p:spPr>
          <a:xfrm>
            <a:off x="4952880" y="1938240"/>
            <a:ext cx="3810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ars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cientists have just found that water is on Ma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Known as the red planet Mars is characterized by it’s dusty landscap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rs is 35 million miles from Earth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or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2" name="Picture 5" descr="C:\Documents and Settings\JonesK\Local Settings\Temporary Internet Files\Content.IE5\SB2103ZJ\MC900083153[1].wmf"/>
          <p:cNvPicPr/>
          <p:nvPr/>
        </p:nvPicPr>
        <p:blipFill>
          <a:blip r:embed="rId1"/>
          <a:stretch/>
        </p:blipFill>
        <p:spPr>
          <a:xfrm>
            <a:off x="4660920" y="2073240"/>
            <a:ext cx="4102200" cy="4327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Jupit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157a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157a"/>
              </a:solidFill>
              <a:latin typeface="Corbe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2458800"/>
            <a:ext cx="40402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12120" indent="-260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piter’s four largest moons are named Io,Europa,Ganymede,and Callist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piter’s rings were discovered by Voyager 1 in 1979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large red spot on Jupiter is actully from a storm that has lasted over 300 years.       planet facts.org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472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8" name="Picture 7" descr="C:\Documents and Settings\JonesK\Local Settings\Temporary Internet Files\Content.IE5\SB2103ZJ\MC900083163[1].wmf"/>
          <p:cNvPicPr/>
          <p:nvPr/>
        </p:nvPicPr>
        <p:blipFill>
          <a:blip r:embed="rId1"/>
          <a:stretch/>
        </p:blipFill>
        <p:spPr>
          <a:xfrm>
            <a:off x="4559400" y="2895480"/>
            <a:ext cx="41241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aturn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56240" y="1770120"/>
            <a:ext cx="403848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aturn is flattened at the poles,due to a fast rotation on it’s ax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aturn is the sixth planet from the Sun and the second large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year on Saturn is equal to 29.5 Earth years’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org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2" name="Picture 6" descr="C:\Documents and Settings\JonesK\Local Settings\Temporary Internet Files\Content.IE5\EO1L7N1R\MC900083161[1].wmf"/>
          <p:cNvPicPr/>
          <p:nvPr/>
        </p:nvPicPr>
        <p:blipFill>
          <a:blip r:embed="rId1"/>
          <a:stretch/>
        </p:blipFill>
        <p:spPr>
          <a:xfrm>
            <a:off x="4800600" y="2362320"/>
            <a:ext cx="3886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Uranus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ranus is the third largest planet in the Solar Syste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planet is the second least dense after Satur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day on Uranus is equal to a little more than 17 hours on Earth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org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6" name="Picture 5" descr="C:\Documents and Settings\JonesK\Local Settings\Temporary Internet Files\Content.IE5\EO1L7N1R\MC900083169[1].wmf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Neptune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091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eptune is the fourth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argest planet in the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lar Syste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Roman mythology,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eptune is the god of the se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eptune is the farthest planet from the Su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or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0" name="Picture 7" descr="C:\Documents and Settings\JonesK\Local Settings\Temporary Internet Files\Content.IE5\EO1L7N1R\MC900083167[1].wmf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0:22:50Z</dcterms:created>
  <dc:creator>Rachel B. Bunin</dc:creator>
  <dc:description/>
  <dc:language>en-US</dc:language>
  <cp:lastModifiedBy>Katelyn Jones</cp:lastModifiedBy>
  <dcterms:modified xsi:type="dcterms:W3CDTF">2013-10-30T13:11:33Z</dcterms:modified>
  <cp:revision>23</cp:revision>
  <dc:subject/>
  <dc:title>The Planets</dc:title>
</cp:coreProperties>
</file>